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BFF-0D03-4765-A690-90A1BCF8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4C0-FC17-4EB2-AE2E-6ECF8D45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5C6-C8FF-4F70-A2E6-D43043E1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9CF-E439-420F-971A-782B2EF9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E45-4EAA-4469-AE35-04C0308C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4BB-B219-4719-8D77-6815033F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FEB-05A1-4012-9C24-714021FD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688-7239-49C6-B2C7-9F130D74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F55-B941-4F96-9F47-FC00156A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841-7F86-4147-AA36-D3DF8E74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C14-4718-4595-9012-914D60C6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D46-18B8-44F2-9736-E4DCEC7E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94B1-3B7A-4A60-9FDF-81A74165E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threefold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41Z</dcterms:modified>
  <cp:revision>9</cp:revision>
  <dc:subject/>
  <dc:title>Confession (threefold form)</dc:title>
</cp:coreProperties>
</file>